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C4E5-CBF4-4BAF-BE62-698E35FFB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D7F-E508-445F-9053-C397AE0B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6AB-AEA0-46A1-9B83-C1070B9F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A20-D883-42E8-8059-5167739F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899-0835-4617-89D0-BADF10EC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ACA-1C3A-4897-8A1C-479D46D5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6E0-70EA-4C18-AAC7-D242CFA7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7FDB-1A1D-4565-A6A8-57B6385B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60EC-2513-4874-8037-E1E4BADF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A1C-382D-43CA-98C0-B1D93192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4D5-D8DE-4D00-B6CC-E878DE51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AD3-3836-46FC-836E-21513D3C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B6E-435A-4298-8D19-ECBAF1A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7F9-F8B3-4A5B-B215-FFD571F1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32C-EC4D-414C-A1A6-CA5FA82E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7EB-E185-4C97-BCF4-912D0A1C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FE29-CCE7-4DB5-BB5A-2598742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A943-FCD2-464D-95B6-3FE13A7C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096-7460-4140-9593-E52CC5E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AA0-3510-488B-B480-A27B21B3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6BBF-24F0-4971-8D3A-7B23B0A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F1D-7FFC-4C99-AD34-0E1CCEC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55E-AC8A-4431-AA27-7EC9C4A0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AA1-EE96-4FC3-B7D8-834852D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9CB-9830-43CC-8218-AC53C09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993C-352F-48C9-9529-AF1DC9D4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4748-1BF2-4569-A27C-4679EA7D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B15-7247-4B74-A8D1-FC0B875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4A6-F7B6-430B-BAB0-5FBF215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AE3-2E15-4FA5-B554-1DB2B76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B3B-61DB-46A1-BAFD-FC1A7240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A36-F865-4DB9-B112-6ECE675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18D-B60B-4614-B4DE-4621179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1B8-09C0-41D8-8315-B41E41F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E941-76B8-43A7-AE54-EEB6AA5BA1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6F7-2C42-4A04-B57C-13F23D4923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2836440"/>
            <a:ext cx="28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Yie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124000" y="25938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857600" y="4276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ercentage Yield 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514520"/>
          <a:ext cx="1800000" cy="36684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3"/>
          <p:cNvSpPr/>
          <p:nvPr/>
        </p:nvSpPr>
        <p:spPr>
          <a:xfrm>
            <a:off x="1750680" y="1267920"/>
            <a:ext cx="53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ctual Yield in 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roduced During an Experi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47640" y="1773360"/>
          <a:ext cx="6328080" cy="366480"/>
        </p:xfrm>
        <a:graphic>
          <a:graphicData uri="http://schemas.openxmlformats.org/drawingml/2006/table">
            <a:tbl>
              <a:tblPr/>
              <a:tblGrid>
                <a:gridCol w="6080400"/>
                <a:gridCol w="24768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oretical Yiel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s predicted by reaction equation)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40720" y="1484280"/>
          <a:ext cx="1008000" cy="366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8"/>
          <p:cNvSpPr/>
          <p:nvPr/>
        </p:nvSpPr>
        <p:spPr>
          <a:xfrm>
            <a:off x="1606680" y="171468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4"/>
          <p:cNvSpPr/>
          <p:nvPr/>
        </p:nvSpPr>
        <p:spPr>
          <a:xfrm>
            <a:off x="549360" y="2817000"/>
            <a:ext cx="56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% yield will usuall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than 100%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becaus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6"/>
          <p:cNvSpPr/>
          <p:nvPr/>
        </p:nvSpPr>
        <p:spPr>
          <a:xfrm>
            <a:off x="535320" y="348516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. The reaction ma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33160" y="406152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reacti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ay occ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0"/>
          <p:cNvSpPr/>
          <p:nvPr/>
        </p:nvSpPr>
        <p:spPr>
          <a:xfrm>
            <a:off x="532800" y="4651920"/>
            <a:ext cx="59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 Produc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uring separation and pu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2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333360"/>
          <a:ext cx="8424720" cy="457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Steps to Calculate a Percentage Y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70"/>
          <p:cNvSpPr/>
          <p:nvPr/>
        </p:nvSpPr>
        <p:spPr>
          <a:xfrm>
            <a:off x="250920" y="1052640"/>
            <a:ext cx="8208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. Convert the mass (w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 of main reactant (R) to a number (n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 of moles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/M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f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3"/>
          <p:cNvSpPr/>
          <p:nvPr/>
        </p:nvSpPr>
        <p:spPr>
          <a:xfrm>
            <a:off x="264960" y="1959120"/>
            <a:ext cx="87487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number (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of mol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(P) using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atio from the balanc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279360" y="2852640"/>
            <a:ext cx="83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mass (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(P)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n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x M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of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9"/>
          <p:cNvSpPr/>
          <p:nvPr/>
        </p:nvSpPr>
        <p:spPr>
          <a:xfrm>
            <a:off x="284400" y="37893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4. Calculate the percentage yield u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4829040"/>
          <a:ext cx="1800000" cy="45720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9"/>
          <p:cNvSpPr/>
          <p:nvPr/>
        </p:nvSpPr>
        <p:spPr>
          <a:xfrm>
            <a:off x="3330720" y="45676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ual Yield in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25560" y="5133960"/>
          <a:ext cx="5015160" cy="457200"/>
        </p:xfrm>
        <a:graphic>
          <a:graphicData uri="http://schemas.openxmlformats.org/drawingml/2006/table">
            <a:tbl>
              <a:tblPr/>
              <a:tblGrid>
                <a:gridCol w="501516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oretical Yield (w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164360" y="4809960"/>
          <a:ext cx="1295280" cy="4572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Line 113"/>
          <p:cNvSpPr/>
          <p:nvPr/>
        </p:nvSpPr>
        <p:spPr>
          <a:xfrm>
            <a:off x="2962440" y="50688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5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571680" y="58579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N.B. This assumes all other reactants are present in excess, or at least in stoichiometr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76440" y="398520"/>
            <a:ext cx="7435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1  12.0g ethanol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H) is reacted to produce 5.3g of ethene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91480" y="155628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ethanol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10560" y="2392920"/>
            <a:ext cx="3774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H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4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200" y="400284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8200" y="191628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12.0 /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2700360" y="190800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228320" y="29512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330920" y="44719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26 x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2916360" y="44845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237680" y="34480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6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since 1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28"/>
          <p:cNvSpPr/>
          <p:nvPr/>
        </p:nvSpPr>
        <p:spPr>
          <a:xfrm>
            <a:off x="3117240" y="5047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19400" y="5413320"/>
          <a:ext cx="765360" cy="397080"/>
        </p:xfrm>
        <a:graphic>
          <a:graphicData uri="http://schemas.openxmlformats.org/drawingml/2006/table">
            <a:tbl>
              <a:tblPr/>
              <a:tblGrid>
                <a:gridCol w="76536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4700880" y="520452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71680" y="185760"/>
            <a:ext cx="7967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2  8.85 g of sodium hydroxide (NaOH) is reacted to produce 9.45 g of  sodium carbonate (Na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12000" y="155772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NaOH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31080" y="2394360"/>
            <a:ext cx="49435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2NaOH  +  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Na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3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596880" y="3983400"/>
            <a:ext cx="484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267920" y="191628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8.85 / (23.0 + 16.0 + 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387680" y="1908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314000" y="2951280"/>
            <a:ext cx="549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319760" y="44719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111 x (2(23)+12+3(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66960" y="4484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.7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240200" y="344808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21/2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(since 2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8"/>
          <p:cNvSpPr/>
          <p:nvPr/>
        </p:nvSpPr>
        <p:spPr>
          <a:xfrm>
            <a:off x="3062520" y="50011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76480" y="5500800"/>
          <a:ext cx="1095480" cy="396720"/>
        </p:xfrm>
        <a:graphic>
          <a:graphicData uri="http://schemas.openxmlformats.org/drawingml/2006/table">
            <a:tbl>
              <a:tblPr/>
              <a:tblGrid>
                <a:gridCol w="10954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4705560" y="5205960"/>
            <a:ext cx="10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80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% Atom Economy (also called % Atom Utili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The greater the % atom economy of a reaction, the more 'efficient' or 'economic' it is likely to b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%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0360" y="2857680"/>
            <a:ext cx="7858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Calculate the total mass of the reactants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60360" y="350028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Calculate the total mass of the “desired product”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75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76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648000" y="4419720"/>
              <a:ext cx="251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%  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5214960" y="4071960"/>
            <a:ext cx="33577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428760" y="142920"/>
            <a:ext cx="828648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011960" y="37116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044000" y="45100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Rectangle 7" descr=""/>
          <p:cNvPicPr/>
          <p:nvPr/>
        </p:nvPicPr>
        <p:blipFill>
          <a:blip r:embed="rId1"/>
          <a:stretch/>
        </p:blipFill>
        <p:spPr>
          <a:xfrm>
            <a:off x="1011240" y="2998800"/>
            <a:ext cx="7066080" cy="390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%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011960" y="333684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1:43:52Z</dcterms:created>
  <dc:creator>Mike Hughes</dc:creator>
  <dc:description/>
  <dc:language>en-US</dc:language>
  <cp:lastModifiedBy>Nico Van De Casteele</cp:lastModifiedBy>
  <dcterms:modified xsi:type="dcterms:W3CDTF">2014-09-12T04:23:41Z</dcterms:modified>
  <cp:revision>32</cp:revision>
  <dc:subject/>
  <dc:title>Slide 1</dc:title>
</cp:coreProperties>
</file>